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20.png" ContentType="image/png"/>
  <Override PartName="/ppt/media/image7.jpeg" ContentType="image/jpeg"/>
  <Override PartName="/ppt/media/image11.png" ContentType="image/pn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E2C-8E1A-4025-BA2D-FEACAFAF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63F3-46E6-48EF-815E-6C41479A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09FC-B1C8-48E8-9537-D329085B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E0A-81FE-4692-9101-478E9DB6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007-F9EA-4C3A-8C03-9D46EF3E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51F9-A884-4BCB-8FFB-2B39B8A2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722-976A-4464-955F-62C02132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28C8-8B51-4400-8C51-BD06221F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69B-C148-469A-8CE4-02E98ED1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56C1-6DBB-496E-836E-8A36276D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14A8-84E6-451C-A01B-BE7DA1D0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F0EE-A1C9-4063-B6C3-36C690D9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58A5-D413-4A37-88CD-136A4E72F87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hyperlink" Target="http://www.vestaldesign.com/blog/wp-content/uploads/img_2260_rainbow-technology-sample_450x360.jpg" TargetMode="External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Photo Essay 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y Maiya K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Instant Photo Walking Animated Clipart&#10;&#10;"/>
          <p:cNvPicPr/>
          <p:nvPr/>
        </p:nvPicPr>
        <p:blipFill>
          <a:blip r:embed="rId2"/>
          <a:stretch/>
        </p:blipFill>
        <p:spPr>
          <a:xfrm>
            <a:off x="0" y="38862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his project increased my knowledge of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farm4.static.flickr.com/3091/2553278728_fb16f45dea.jpg?v=0"/>
          <p:cNvPicPr/>
          <p:nvPr/>
        </p:nvPicPr>
        <p:blipFill>
          <a:blip r:embed="rId2"/>
          <a:stretch/>
        </p:blipFill>
        <p:spPr>
          <a:xfrm>
            <a:off x="0" y="1906560"/>
            <a:ext cx="3505320" cy="4951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3505320" y="1225440"/>
            <a:ext cx="5638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learned that I am a perfectionist. And sometimes I just need to let it go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1" descr=""/>
          <p:cNvPicPr/>
          <p:nvPr/>
        </p:nvPicPr>
        <p:blipFill>
          <a:blip r:embed="rId2"/>
          <a:stretch/>
        </p:blipFill>
        <p:spPr>
          <a:xfrm>
            <a:off x="-1006560" y="1792440"/>
            <a:ext cx="111506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looking back at my Photo Essay I decided that I needed to slow down and take my time. I also felt that I need to put less words on a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0" y="2057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oud of how the different pieces of music I used tied toge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0" y="3429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aced the challenge of putting too many words on each slide, and therefore have to revise my sl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0" y="4952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next project I would like to slow down and make sure I don’t put too many words on a sl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0" y="11430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used 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used clip art with the search “evalu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thebrainteasers.com/brainteasers/images/movin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vestaldesign.com/blog/wp-content/uploads/img_2260_rainbow-technology-sample_450x360.jp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mages.google.com/images?sourceid=navclient&amp;rlz=1T4SUNA_enUS347US343&amp;q=affective%20development&amp;safe=active&amp;um=1&amp;ie=UTF-8&amp;sa=N&amp;hl=en&amp;tab=w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nimationfactory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Rectangle 2" descr=""/>
          <p:cNvPicPr/>
          <p:nvPr/>
        </p:nvPicPr>
        <p:blipFill>
          <a:blip r:embed="rId6"/>
          <a:stretch/>
        </p:blipFill>
        <p:spPr>
          <a:xfrm>
            <a:off x="2114640" y="-171360"/>
            <a:ext cx="45543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000800" y="2844720"/>
            <a:ext cx="714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atch my Photo Essay click 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ouse Showing Stages of Construction Animated Clipart&#10;&#10;"/>
          <p:cNvPicPr/>
          <p:nvPr/>
        </p:nvPicPr>
        <p:blipFill>
          <a:blip r:embed="rId1"/>
          <a:stretch/>
        </p:blipFill>
        <p:spPr>
          <a:xfrm>
            <a:off x="5334120" y="763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-189000" y="-176040"/>
            <a:ext cx="5102280" cy="3004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380880" y="3809880"/>
            <a:ext cx="8763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takes hard work, determination, skill, and knowledg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1" descr=""/>
          <p:cNvPicPr/>
          <p:nvPr/>
        </p:nvPicPr>
        <p:blipFill>
          <a:blip r:embed="rId2"/>
          <a:stretch/>
        </p:blipFill>
        <p:spPr>
          <a:xfrm>
            <a:off x="-201600" y="1731960"/>
            <a:ext cx="98265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0" y="79704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worked on a nonfiction gen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y audience for this piece was my </a:t>
            </a:r>
            <a:r>
              <a:rPr b="0" lang="en-US" sz="4800" spc="-1" strike="noStrike">
                <a:solidFill>
                  <a:srgbClr val="660033"/>
                </a:solidFill>
                <a:latin typeface="Arial"/>
              </a:rPr>
              <a:t>G.T. Famil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y mentor texts were from others in G.T reading class and from a High School Student’s Photo Essay about w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1" descr=""/>
          <p:cNvPicPr/>
          <p:nvPr/>
        </p:nvPicPr>
        <p:blipFill>
          <a:blip r:embed="rId2"/>
          <a:stretch/>
        </p:blipFill>
        <p:spPr>
          <a:xfrm>
            <a:off x="-817560" y="1152360"/>
            <a:ext cx="1077912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-189000" y="-92160"/>
            <a:ext cx="935208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www.vestaldesign.com/blog/wp-content/uploads/img_2260_rainbow-technology-sample_450x360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2" descr=""/>
          <p:cNvPicPr/>
          <p:nvPr/>
        </p:nvPicPr>
        <p:blipFill>
          <a:blip r:embed="rId2"/>
          <a:stretch/>
        </p:blipFill>
        <p:spPr>
          <a:xfrm>
            <a:off x="-596880" y="1474920"/>
            <a:ext cx="103442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7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developed many technology skills while I worked on this proj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7"/>
          <p:cNvGrpSpPr/>
          <p:nvPr/>
        </p:nvGrpSpPr>
        <p:grpSpPr>
          <a:xfrm>
            <a:off x="1294920" y="2514600"/>
            <a:ext cx="1295640" cy="1219320"/>
            <a:chOff x="1294920" y="2514600"/>
            <a:chExt cx="1295640" cy="1219320"/>
          </a:xfrm>
        </p:grpSpPr>
        <p:sp>
          <p:nvSpPr>
            <p:cNvPr id="55" name="Straight Connector 11"/>
            <p:cNvSpPr/>
            <p:nvPr/>
          </p:nvSpPr>
          <p:spPr>
            <a:xfrm>
              <a:off x="1295280" y="251460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traight Connector 13"/>
            <p:cNvSpPr/>
            <p:nvPr/>
          </p:nvSpPr>
          <p:spPr>
            <a:xfrm flipH="1">
              <a:off x="1294920" y="3733920"/>
              <a:ext cx="129564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8"/>
          <p:cNvGrpSpPr/>
          <p:nvPr/>
        </p:nvGrpSpPr>
        <p:grpSpPr>
          <a:xfrm>
            <a:off x="3924360" y="5257800"/>
            <a:ext cx="1295280" cy="1219320"/>
            <a:chOff x="3924360" y="5257800"/>
            <a:chExt cx="1295280" cy="1219320"/>
          </a:xfrm>
        </p:grpSpPr>
        <p:sp>
          <p:nvSpPr>
            <p:cNvPr id="58" name="Straight Connector 19"/>
            <p:cNvSpPr/>
            <p:nvPr/>
          </p:nvSpPr>
          <p:spPr>
            <a:xfrm>
              <a:off x="3924360" y="525780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traight Connector 20"/>
            <p:cNvSpPr/>
            <p:nvPr/>
          </p:nvSpPr>
          <p:spPr>
            <a:xfrm flipH="1">
              <a:off x="3924360" y="647712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1"/>
          <p:cNvGrpSpPr/>
          <p:nvPr/>
        </p:nvGrpSpPr>
        <p:grpSpPr>
          <a:xfrm>
            <a:off x="1371600" y="4267080"/>
            <a:ext cx="1295280" cy="1219320"/>
            <a:chOff x="1371600" y="4267080"/>
            <a:chExt cx="1295280" cy="1219320"/>
          </a:xfrm>
        </p:grpSpPr>
        <p:sp>
          <p:nvSpPr>
            <p:cNvPr id="61" name="Straight Connector 22"/>
            <p:cNvSpPr/>
            <p:nvPr/>
          </p:nvSpPr>
          <p:spPr>
            <a:xfrm>
              <a:off x="1371600" y="42670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traight Connector 23"/>
            <p:cNvSpPr/>
            <p:nvPr/>
          </p:nvSpPr>
          <p:spPr>
            <a:xfrm flipH="1">
              <a:off x="1371600" y="54864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24"/>
          <p:cNvGrpSpPr/>
          <p:nvPr/>
        </p:nvGrpSpPr>
        <p:grpSpPr>
          <a:xfrm>
            <a:off x="6400800" y="4267080"/>
            <a:ext cx="1295280" cy="1219320"/>
            <a:chOff x="6400800" y="4267080"/>
            <a:chExt cx="1295280" cy="1219320"/>
          </a:xfrm>
        </p:grpSpPr>
        <p:sp>
          <p:nvSpPr>
            <p:cNvPr id="64" name="Straight Connector 25"/>
            <p:cNvSpPr/>
            <p:nvPr/>
          </p:nvSpPr>
          <p:spPr>
            <a:xfrm>
              <a:off x="6400800" y="42670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6"/>
            <p:cNvSpPr/>
            <p:nvPr/>
          </p:nvSpPr>
          <p:spPr>
            <a:xfrm flipH="1">
              <a:off x="6400800" y="54864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7"/>
          <p:cNvGrpSpPr/>
          <p:nvPr/>
        </p:nvGrpSpPr>
        <p:grpSpPr>
          <a:xfrm>
            <a:off x="6248520" y="2438280"/>
            <a:ext cx="1295280" cy="1219320"/>
            <a:chOff x="6248520" y="2438280"/>
            <a:chExt cx="1295280" cy="1219320"/>
          </a:xfrm>
        </p:grpSpPr>
        <p:sp>
          <p:nvSpPr>
            <p:cNvPr id="67" name="Straight Connector 28"/>
            <p:cNvSpPr/>
            <p:nvPr/>
          </p:nvSpPr>
          <p:spPr>
            <a:xfrm>
              <a:off x="6248520" y="24382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traight Connector 29"/>
            <p:cNvSpPr/>
            <p:nvPr/>
          </p:nvSpPr>
          <p:spPr>
            <a:xfrm flipH="1">
              <a:off x="6248520" y="36576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30"/>
          <p:cNvGrpSpPr/>
          <p:nvPr/>
        </p:nvGrpSpPr>
        <p:grpSpPr>
          <a:xfrm>
            <a:off x="3886200" y="1523880"/>
            <a:ext cx="1295280" cy="1219320"/>
            <a:chOff x="3886200" y="1523880"/>
            <a:chExt cx="1295280" cy="1219320"/>
          </a:xfrm>
        </p:grpSpPr>
        <p:sp>
          <p:nvSpPr>
            <p:cNvPr id="70" name="Straight Connector 31"/>
            <p:cNvSpPr/>
            <p:nvPr/>
          </p:nvSpPr>
          <p:spPr>
            <a:xfrm>
              <a:off x="3886200" y="15238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aight Connector 32"/>
            <p:cNvSpPr/>
            <p:nvPr/>
          </p:nvSpPr>
          <p:spPr>
            <a:xfrm flipH="1">
              <a:off x="3886200" y="27432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Box 33"/>
          <p:cNvSpPr/>
          <p:nvPr/>
        </p:nvSpPr>
        <p:spPr>
          <a:xfrm>
            <a:off x="2971800" y="15238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ime working on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35"/>
          <p:cNvSpPr/>
          <p:nvPr/>
        </p:nvSpPr>
        <p:spPr>
          <a:xfrm flipV="1">
            <a:off x="3886200" y="1600200"/>
            <a:ext cx="1219320" cy="91440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6"/>
          <p:cNvSpPr/>
          <p:nvPr/>
        </p:nvSpPr>
        <p:spPr>
          <a:xfrm>
            <a:off x="5334120" y="2666880"/>
            <a:ext cx="99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nowledge on how to use Photo Story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38"/>
          <p:cNvSpPr/>
          <p:nvPr/>
        </p:nvSpPr>
        <p:spPr>
          <a:xfrm flipV="1">
            <a:off x="6248520" y="2590920"/>
            <a:ext cx="1143000" cy="83808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ircular Arrow 39"/>
          <p:cNvSpPr/>
          <p:nvPr/>
        </p:nvSpPr>
        <p:spPr>
          <a:xfrm rot="2280600">
            <a:off x="5009760" y="1301400"/>
            <a:ext cx="1509840" cy="1447920"/>
          </a:xfrm>
          <a:custGeom>
            <a:avLst/>
            <a:gdLst>
              <a:gd name="textAreaLeft" fmla="*/ 285120 w 1509840"/>
              <a:gd name="textAreaRight" fmla="*/ 1224720 w 1509840"/>
              <a:gd name="textAreaTop" fmla="*/ 275760 h 1447920"/>
              <a:gd name="textAreaBottom" fmla="*/ 1172160 h 1447920"/>
            </a:gdLst>
            <a:ahLst/>
            <a:rect l="textAreaLeft" t="textAreaTop" r="textAreaRight" b="textAreaBottom"/>
            <a:pathLst>
              <a:path w="1509713" h="1447800">
                <a:moveTo>
                  <a:pt x="90793" y="743095"/>
                </a:moveTo>
                <a:lnTo>
                  <a:pt x="90793" y="743095"/>
                </a:lnTo>
                <a:arcTo wR="664369" hR="633413" stAng="10700658" swAng="9887015"/>
                <a:lnTo>
                  <a:pt x="1474603" y="526376"/>
                </a:lnTo>
                <a:lnTo>
                  <a:pt x="1327447" y="687507"/>
                </a:lnTo>
                <a:lnTo>
                  <a:pt x="1113382" y="549334"/>
                </a:lnTo>
                <a:lnTo>
                  <a:pt x="1198363" y="543933"/>
                </a:lnTo>
                <a:lnTo>
                  <a:pt x="1198363" y="543933"/>
                </a:lnTo>
                <a:arcTo wR="483394" hR="452438" stAng="-1325178" swAng="-957416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0"/>
          <p:cNvSpPr/>
          <p:nvPr/>
        </p:nvSpPr>
        <p:spPr>
          <a:xfrm>
            <a:off x="304920" y="2514600"/>
            <a:ext cx="1066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nowledge on how to save images as jpg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ircular Arrow 41"/>
          <p:cNvSpPr/>
          <p:nvPr/>
        </p:nvSpPr>
        <p:spPr>
          <a:xfrm flipH="1" rot="20142600">
            <a:off x="740160" y="1208160"/>
            <a:ext cx="2522520" cy="1608480"/>
          </a:xfrm>
          <a:custGeom>
            <a:avLst/>
            <a:gdLst>
              <a:gd name="textAreaLeft" fmla="*/ 463320 w 2522520"/>
              <a:gd name="textAreaRight" fmla="*/ 2059200 w 2522520"/>
              <a:gd name="textAreaTop" fmla="*/ 329400 h 1608480"/>
              <a:gd name="textAreaBottom" fmla="*/ 1279080 h 1608480"/>
            </a:gdLst>
            <a:ahLst/>
            <a:rect l="textAreaLeft" t="textAreaTop" r="textAreaRight" b="textAreaBottom"/>
            <a:pathLst>
              <a:path w="2522537" h="1608137">
                <a:moveTo>
                  <a:pt x="136925" y="746334"/>
                </a:moveTo>
                <a:lnTo>
                  <a:pt x="136925" y="746334"/>
                </a:lnTo>
                <a:arcTo wR="1128525" hR="671325" stAng="-10623627" swAng="9369111"/>
                <a:lnTo>
                  <a:pt x="2316676" y="434610"/>
                </a:lnTo>
                <a:lnTo>
                  <a:pt x="2315034" y="737468"/>
                </a:lnTo>
                <a:lnTo>
                  <a:pt x="1915442" y="459969"/>
                </a:lnTo>
                <a:lnTo>
                  <a:pt x="2011055" y="453926"/>
                </a:lnTo>
                <a:lnTo>
                  <a:pt x="2011055" y="453926"/>
                </a:lnTo>
                <a:arcTo wR="991978" hR="534778" stAng="-1501919" swAng="-912170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43"/>
          <p:cNvSpPr/>
          <p:nvPr/>
        </p:nvSpPr>
        <p:spPr>
          <a:xfrm flipV="1">
            <a:off x="1295280" y="2590920"/>
            <a:ext cx="1295640" cy="83808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5"/>
          <p:cNvSpPr/>
          <p:nvPr/>
        </p:nvSpPr>
        <p:spPr>
          <a:xfrm>
            <a:off x="5334120" y="4114800"/>
            <a:ext cx="121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nowledge of how to make transitions on Photo Stor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47"/>
          <p:cNvCxnSpPr/>
          <p:nvPr/>
        </p:nvCxnSpPr>
        <p:spPr>
          <a:xfrm flipH="1">
            <a:off x="6323760" y="3808800"/>
            <a:ext cx="686520" cy="38196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82" name="Straight Arrow Connector 49"/>
          <p:cNvCxnSpPr/>
          <p:nvPr/>
        </p:nvCxnSpPr>
        <p:spPr>
          <a:xfrm>
            <a:off x="4114800" y="2895120"/>
            <a:ext cx="1296000" cy="129636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83" name="Straight Arrow Connector 51"/>
          <p:cNvCxnSpPr/>
          <p:nvPr/>
        </p:nvCxnSpPr>
        <p:spPr>
          <a:xfrm flipH="1">
            <a:off x="4037760" y="2971800"/>
            <a:ext cx="1296360" cy="221040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84" name="Straight Arrow Connector 53"/>
          <p:cNvCxnSpPr/>
          <p:nvPr/>
        </p:nvCxnSpPr>
        <p:spPr>
          <a:xfrm flipH="1">
            <a:off x="3809520" y="2895480"/>
            <a:ext cx="153360" cy="236304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sp>
        <p:nvSpPr>
          <p:cNvPr id="85" name="Straight Connector 55"/>
          <p:cNvSpPr/>
          <p:nvPr/>
        </p:nvSpPr>
        <p:spPr>
          <a:xfrm flipV="1">
            <a:off x="6400800" y="4419720"/>
            <a:ext cx="1219320" cy="91440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59"/>
          <p:cNvSpPr/>
          <p:nvPr/>
        </p:nvSpPr>
        <p:spPr>
          <a:xfrm flipV="1">
            <a:off x="3962520" y="5333760"/>
            <a:ext cx="1143000" cy="99036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3"/>
          <p:cNvSpPr/>
          <p:nvPr/>
        </p:nvSpPr>
        <p:spPr>
          <a:xfrm>
            <a:off x="2895480" y="5257800"/>
            <a:ext cx="1219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nowledge on how to put music on Photo Stor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4"/>
          <p:cNvSpPr/>
          <p:nvPr/>
        </p:nvSpPr>
        <p:spPr>
          <a:xfrm>
            <a:off x="0" y="44197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nowledge on how to import pictures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66"/>
          <p:cNvCxnSpPr/>
          <p:nvPr/>
        </p:nvCxnSpPr>
        <p:spPr>
          <a:xfrm flipH="1">
            <a:off x="1066320" y="2895480"/>
            <a:ext cx="2820240" cy="152496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90" name="Straight Arrow Connector 70"/>
          <p:cNvCxnSpPr>
            <a:stCxn id="74" idx="2"/>
          </p:cNvCxnSpPr>
          <p:nvPr/>
        </p:nvCxnSpPr>
        <p:spPr>
          <a:xfrm flipH="1">
            <a:off x="1523520" y="3621240"/>
            <a:ext cx="4306320" cy="7992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Straight Connector 72"/>
          <p:cNvSpPr/>
          <p:nvPr/>
        </p:nvSpPr>
        <p:spPr>
          <a:xfrm flipV="1">
            <a:off x="1371600" y="4419720"/>
            <a:ext cx="1295280" cy="83808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thebrainteasers.com/brainteasers/images/moving.jpg"/>
          <p:cNvPicPr/>
          <p:nvPr/>
        </p:nvPicPr>
        <p:blipFill>
          <a:blip r:embed="rId1"/>
          <a:stretch/>
        </p:blipFill>
        <p:spPr>
          <a:xfrm>
            <a:off x="-25560" y="76320"/>
            <a:ext cx="9169560" cy="670536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2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732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56:34Z</dcterms:created>
  <dc:creator>ITSUser</dc:creator>
  <dc:description/>
  <dc:language>en-US</dc:language>
  <cp:lastModifiedBy>ITSUser</cp:lastModifiedBy>
  <dcterms:modified xsi:type="dcterms:W3CDTF">2010-02-04T18:37:54Z</dcterms:modified>
  <cp:revision>13</cp:revision>
  <dc:subject/>
  <dc:title> My Photo Essay Reflection</dc:title>
</cp:coreProperties>
</file>